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662-6AB4-431A-B3CD-69D0A9F6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399-DC51-40BE-ADE9-C04B794F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C5C-A547-4286-8CBD-FB56C3E3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650-114F-4C2E-A041-32201916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889-50F0-4D2F-892B-EA863CC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F55-D09C-437F-9EC5-48C4C45C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548A-872D-48A8-BEC4-EEEB2CB8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115-BE83-46FA-AADE-E7E162D6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74A0-61FD-49F3-9E1E-675B4E2D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9786-FF42-4787-84CC-FDD5897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87C-AC38-40C1-8131-78FBB09C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496-788A-401A-A319-0BFFA088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8D58-22B5-43DC-A309-7316C77FF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1752480" y="2133720"/>
            <a:ext cx="662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ПРИОРИТЕТНА ОС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3</a:t>
            </a: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600" spc="-1" strike="noStrike">
                <a:solidFill>
                  <a:srgbClr val="17375e"/>
                </a:solidFill>
                <a:latin typeface="Calibri"/>
              </a:rPr>
              <a:t>НАТУРА 2000 И БИОРАЗНООБРАЗ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044960" y="556272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7375e"/>
                </a:solidFill>
                <a:latin typeface="Calibri"/>
              </a:rPr>
              <a:t>IV </a:t>
            </a: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заседание на РГ за ОПОС 2014 – 2020 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13 март 2013 г., гр. Со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1"/>
          <p:cNvSpPr/>
          <p:nvPr/>
        </p:nvSpPr>
        <p:spPr>
          <a:xfrm>
            <a:off x="1600200" y="1066680"/>
            <a:ext cx="693432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77933c"/>
                </a:solidFill>
                <a:uFillTx/>
                <a:latin typeface="Calibri"/>
              </a:rPr>
              <a:t>Дейности към инвестиционен приоритет 6.4 към ТЦ 6 (ЕФРР):</a:t>
            </a:r>
            <a:r>
              <a:rPr b="0" lang="bg-BG" sz="18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опазване и възстановяване на биологичното разнообразие и почвите, и насърчаване на екосистемните услуги, вкл. Натура 2000 и зелена инфраструк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3"/>
          <p:cNvSpPr/>
          <p:nvPr/>
        </p:nvSpPr>
        <p:spPr>
          <a:xfrm>
            <a:off x="1600200" y="2590920"/>
            <a:ext cx="6934320" cy="79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bg-BG" sz="2000" spc="-1" strike="noStrike">
                <a:solidFill>
                  <a:srgbClr val="17375e"/>
                </a:solidFill>
                <a:latin typeface="Calibri"/>
              </a:rPr>
              <a:t>Изпълнение на мерки от Национална приоритетна рамка за действие по Натура 2000 (PAF), например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ounded Rectangle 5"/>
          <p:cNvSpPr/>
          <p:nvPr/>
        </p:nvSpPr>
        <p:spPr>
          <a:xfrm>
            <a:off x="1523880" y="3505320"/>
            <a:ext cx="228600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Опазване, поддържане и възстановяване на видове и местообит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ounded Rectangle 6"/>
          <p:cNvSpPr/>
          <p:nvPr/>
        </p:nvSpPr>
        <p:spPr>
          <a:xfrm>
            <a:off x="4114800" y="3505320"/>
            <a:ext cx="1905120" cy="1357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Разработване на ПУЗЗ по директива 92/43/ЕИ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ounded Rectangle 7"/>
          <p:cNvSpPr/>
          <p:nvPr/>
        </p:nvSpPr>
        <p:spPr>
          <a:xfrm>
            <a:off x="6400800" y="35053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ffffff"/>
                </a:solidFill>
                <a:latin typeface="Calibri"/>
              </a:rPr>
              <a:t>Разработване/ актуализация на ПУЗТ за защитени територии, които са в обхвата на З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unded Rectangle 8"/>
          <p:cNvSpPr/>
          <p:nvPr/>
        </p:nvSpPr>
        <p:spPr>
          <a:xfrm>
            <a:off x="1752480" y="5029200"/>
            <a:ext cx="6623280" cy="16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17375e"/>
                </a:solidFill>
                <a:latin typeface="Calibri"/>
              </a:rPr>
              <a:t>Бенефициенти: МОСВ (дирекция НСЗП), структури/органи/звена, отговорни за управлението на ЗЗ от мрежата Натура 2000 в страната; за ЗТ – структури на МОСВ и МЗХ по компетентност.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ounded Rectangle 1"/>
          <p:cNvSpPr/>
          <p:nvPr/>
        </p:nvSpPr>
        <p:spPr>
          <a:xfrm>
            <a:off x="1600200" y="1143000"/>
            <a:ext cx="6773760" cy="958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2. Проучване на разпространението, оценка на състоянието и опазване на видове и местообитания в ЗЗ от Натура 2000 в акваторията на Черно мор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ounded Rectangle 3"/>
          <p:cNvSpPr/>
          <p:nvPr/>
        </p:nvSpPr>
        <p:spPr>
          <a:xfrm>
            <a:off x="1981080" y="2209680"/>
            <a:ext cx="6096240" cy="7621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готвяне на методики за картиране и определяне на природозащитното състояние на видове и местооб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1905120" y="3200400"/>
            <a:ext cx="6151320" cy="838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Картиране, теренни проучвания/инвентар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ounded Rectangle 5"/>
          <p:cNvSpPr/>
          <p:nvPr/>
        </p:nvSpPr>
        <p:spPr>
          <a:xfrm>
            <a:off x="1905120" y="4343400"/>
            <a:ext cx="6130800" cy="838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готвяне на национални оценки за разпространение и референтни стойности за ПС на видове и местообит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ounded Rectangle 7"/>
          <p:cNvSpPr/>
          <p:nvPr/>
        </p:nvSpPr>
        <p:spPr>
          <a:xfrm>
            <a:off x="1600200" y="5410080"/>
            <a:ext cx="677376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Бенефициенти: МОСВ (дирекция НСЗП), структури/органи/звена, отговорни за управлението на ЗЗ от мрежата Натура 2000 в страна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ounded Rectangle 1"/>
          <p:cNvSpPr/>
          <p:nvPr/>
        </p:nvSpPr>
        <p:spPr>
          <a:xfrm>
            <a:off x="1676520" y="1523880"/>
            <a:ext cx="677376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3. Система за мониторинг на биоразнообразие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ounded Rectangle 3"/>
          <p:cNvSpPr/>
          <p:nvPr/>
        </p:nvSpPr>
        <p:spPr>
          <a:xfrm>
            <a:off x="1981080" y="2438280"/>
            <a:ext cx="6096240" cy="7621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Разработване/актуализиране на национални методики за мониторинг и оценка на състоянието на видове/природни местооб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ounded Rectangle 4"/>
          <p:cNvSpPr/>
          <p:nvPr/>
        </p:nvSpPr>
        <p:spPr>
          <a:xfrm>
            <a:off x="1905120" y="3352680"/>
            <a:ext cx="6151320" cy="83844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вършване на теренни проучвания за докладване по Директива 92/43/ЕИО и Директива 2009/147/Е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ounded Rectangle 5"/>
          <p:cNvSpPr/>
          <p:nvPr/>
        </p:nvSpPr>
        <p:spPr>
          <a:xfrm>
            <a:off x="1905120" y="4419720"/>
            <a:ext cx="6130800" cy="838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Осигуряване на техника, оборудване, материали и обучение за работа с 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ounded Rectangle 7"/>
          <p:cNvSpPr/>
          <p:nvPr/>
        </p:nvSpPr>
        <p:spPr>
          <a:xfrm>
            <a:off x="1523880" y="5638680"/>
            <a:ext cx="677412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Бенефициент: ИАО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ounded Rectangle 1"/>
          <p:cNvSpPr/>
          <p:nvPr/>
        </p:nvSpPr>
        <p:spPr>
          <a:xfrm>
            <a:off x="1600200" y="1066680"/>
            <a:ext cx="6773760" cy="577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4. Изпълнение на информационни и комуникационни мерки за мрежата Натура 2000, 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ounded Rectangle 3"/>
          <p:cNvSpPr/>
          <p:nvPr/>
        </p:nvSpPr>
        <p:spPr>
          <a:xfrm>
            <a:off x="1960560" y="1828800"/>
            <a:ext cx="6095880" cy="9144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одготовка и провеждане на специфични програми (напр. за прокурори, съдии, журналисти) за обуч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1905120" y="2971800"/>
            <a:ext cx="6151320" cy="8380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одготовка и провеждане на семинари и срещи за повишаване на информираността на населението и заинтересовани стр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1905120" y="4000680"/>
            <a:ext cx="6130800" cy="1180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одробно разясняване на изискванията за опазване и възстановяване на видовете и местообитанията, които трябва да се изпълняват от различни групи засегнати стр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7"/>
          <p:cNvSpPr/>
          <p:nvPr/>
        </p:nvSpPr>
        <p:spPr>
          <a:xfrm>
            <a:off x="1600200" y="5410080"/>
            <a:ext cx="677376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Бенефициенти: МОСВ (дирекция НСЗП), МЗХ, общински администрации (чрез ОИЦ), структури/органи/звена, отговорни за управлението на ЗЗ от мрежата Натура 2000 в стран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ounded Rectangle 3"/>
          <p:cNvSpPr/>
          <p:nvPr/>
        </p:nvSpPr>
        <p:spPr>
          <a:xfrm>
            <a:off x="1600200" y="990720"/>
            <a:ext cx="67737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5. Изпълнение на мерки за борба с инвазивните чужди видове, 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1600200" y="1905120"/>
            <a:ext cx="2435400" cy="2590560"/>
          </a:xfrm>
          <a:custGeom>
            <a:avLst/>
            <a:gdLst>
              <a:gd name="textAreaLeft" fmla="*/ 118800 w 2435400"/>
              <a:gd name="textAreaRight" fmla="*/ 2316600 w 2435400"/>
              <a:gd name="textAreaTop" fmla="*/ 118800 h 2590560"/>
              <a:gd name="textAreaBottom" fmla="*/ 2471760 h 2590560"/>
            </a:gdLst>
            <a:ahLst/>
            <a:rect l="textAreaLeft" t="textAreaTop" r="textAreaRight" b="textAreaBottom"/>
            <a:pathLst>
              <a:path w="21600" h="22976">
                <a:moveTo>
                  <a:pt x="3600" y="0"/>
                </a:moveTo>
                <a:arcTo wR="3600" hR="3600" stAng="16200000" swAng="-5400000"/>
                <a:lnTo>
                  <a:pt x="0" y="19376"/>
                </a:lnTo>
                <a:arcTo wR="3600" hR="3600" stAng="10800000" swAng="-5400000"/>
                <a:lnTo>
                  <a:pt x="18000" y="22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ревенция и ограничаване разпространение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ounded Rectangle 5"/>
          <p:cNvSpPr/>
          <p:nvPr/>
        </p:nvSpPr>
        <p:spPr>
          <a:xfrm>
            <a:off x="4114800" y="1905120"/>
            <a:ext cx="1905120" cy="25905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590560"/>
              <a:gd name="textAreaBottom" fmla="*/ 2497680 h 2590560"/>
            </a:gdLst>
            <a:ahLst/>
            <a:rect l="textAreaLeft" t="textAreaTop" r="textAreaRight" b="textAreaBottom"/>
            <a:pathLst>
              <a:path w="21600" h="29370">
                <a:moveTo>
                  <a:pt x="3600" y="0"/>
                </a:moveTo>
                <a:arcTo wR="3600" hR="3600" stAng="16200000" swAng="-5400000"/>
                <a:lnTo>
                  <a:pt x="0" y="25770"/>
                </a:lnTo>
                <a:arcTo wR="3600" hR="3600" stAng="10800000" swAng="-5400000"/>
                <a:lnTo>
                  <a:pt x="18000" y="2937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700" spc="-1" strike="noStrike">
                <a:solidFill>
                  <a:srgbClr val="ffffff"/>
                </a:solidFill>
                <a:latin typeface="Calibri"/>
              </a:rPr>
              <a:t>Повишаване на информираността на населението и засегнати стран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ounded Rectangle 6"/>
          <p:cNvSpPr/>
          <p:nvPr/>
        </p:nvSpPr>
        <p:spPr>
          <a:xfrm>
            <a:off x="6172200" y="1905120"/>
            <a:ext cx="2354400" cy="2590560"/>
          </a:xfrm>
          <a:custGeom>
            <a:avLst/>
            <a:gdLst>
              <a:gd name="textAreaLeft" fmla="*/ 114840 w 2354400"/>
              <a:gd name="textAreaRight" fmla="*/ 2239560 w 2354400"/>
              <a:gd name="textAreaTop" fmla="*/ 114840 h 2590560"/>
              <a:gd name="textAreaBottom" fmla="*/ 2475720 h 2590560"/>
            </a:gdLst>
            <a:ahLst/>
            <a:rect l="textAreaLeft" t="textAreaTop" r="textAreaRight" b="textAreaBottom"/>
            <a:pathLst>
              <a:path w="21600" h="23766">
                <a:moveTo>
                  <a:pt x="3600" y="0"/>
                </a:moveTo>
                <a:arcTo wR="3600" hR="3600" stAng="16200000" swAng="-5400000"/>
                <a:lnTo>
                  <a:pt x="0" y="20166"/>
                </a:lnTo>
                <a:arcTo wR="3600" hR="3600" stAng="10800000" swAng="-5400000"/>
                <a:lnTo>
                  <a:pt x="18000" y="23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граждане на капацитет на органите, отговорни за планиране и изпълнение на мерките за борба с чуждите инвазивни видов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ounded Rectangle 7"/>
          <p:cNvSpPr/>
          <p:nvPr/>
        </p:nvSpPr>
        <p:spPr>
          <a:xfrm>
            <a:off x="1905120" y="5105520"/>
            <a:ext cx="624816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Бенефициенти: МОСВ (дирекция НСЗ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1600200" y="1219320"/>
            <a:ext cx="67737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6. Изграждане на информационна система за генетичните ресурси и традиционни знания за тя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2057400" y="2438280"/>
            <a:ext cx="2435400" cy="2590920"/>
          </a:xfrm>
          <a:custGeom>
            <a:avLst/>
            <a:gdLst>
              <a:gd name="textAreaLeft" fmla="*/ 118800 w 2435400"/>
              <a:gd name="textAreaRight" fmla="*/ 2316600 w 2435400"/>
              <a:gd name="textAreaTop" fmla="*/ 118800 h 2590920"/>
              <a:gd name="textAreaBottom" fmla="*/ 2472120 h 2590920"/>
            </a:gdLst>
            <a:ahLst/>
            <a:rect l="textAreaLeft" t="textAreaTop" r="textAreaRight" b="textAreaBottom"/>
            <a:pathLst>
              <a:path w="21600" h="22979">
                <a:moveTo>
                  <a:pt x="3600" y="0"/>
                </a:moveTo>
                <a:arcTo wR="3600" hR="3600" stAng="16200000" swAng="-5400000"/>
                <a:lnTo>
                  <a:pt x="0" y="19379"/>
                </a:lnTo>
                <a:arcTo wR="3600" hR="3600" stAng="10800000" swAng="-5400000"/>
                <a:lnTo>
                  <a:pt x="18000" y="2297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нвентаризация на генетичните ресурси на стран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5486400" y="2133720"/>
            <a:ext cx="2354400" cy="2590560"/>
          </a:xfrm>
          <a:custGeom>
            <a:avLst/>
            <a:gdLst>
              <a:gd name="textAreaLeft" fmla="*/ 114840 w 2354400"/>
              <a:gd name="textAreaRight" fmla="*/ 2239560 w 2354400"/>
              <a:gd name="textAreaTop" fmla="*/ 114840 h 2590560"/>
              <a:gd name="textAreaBottom" fmla="*/ 2475720 h 2590560"/>
            </a:gdLst>
            <a:ahLst/>
            <a:rect l="textAreaLeft" t="textAreaTop" r="textAreaRight" b="textAreaBottom"/>
            <a:pathLst>
              <a:path w="21600" h="23766">
                <a:moveTo>
                  <a:pt x="3600" y="0"/>
                </a:moveTo>
                <a:arcTo wR="3600" hR="3600" stAng="16200000" swAng="-5400000"/>
                <a:lnTo>
                  <a:pt x="0" y="20166"/>
                </a:lnTo>
                <a:arcTo wR="3600" hR="3600" stAng="10800000" swAng="-5400000"/>
                <a:lnTo>
                  <a:pt x="18000" y="23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Създаване на регистър и база дан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2312640" y="5333400"/>
            <a:ext cx="484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Бенефициенти: МОСВ (дирекция НСЗП), ИАОС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ounded Rectangle 3"/>
          <p:cNvSpPr/>
          <p:nvPr/>
        </p:nvSpPr>
        <p:spPr>
          <a:xfrm>
            <a:off x="1600200" y="990720"/>
            <a:ext cx="67737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7. Подобряване на знанията за екосистемните ус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ounded Rectangle 4"/>
          <p:cNvSpPr/>
          <p:nvPr/>
        </p:nvSpPr>
        <p:spPr>
          <a:xfrm>
            <a:off x="1600200" y="1954080"/>
            <a:ext cx="6773760" cy="865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нвентаризация на екосистемните ус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1600200" y="3006720"/>
            <a:ext cx="6773760" cy="7509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Изготвяне на национална методика за оценка на икономическата стойност на екосистемните услу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ounded Rectangle 1"/>
          <p:cNvSpPr/>
          <p:nvPr/>
        </p:nvSpPr>
        <p:spPr>
          <a:xfrm>
            <a:off x="1600200" y="3886200"/>
            <a:ext cx="685800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ffffff"/>
                </a:solidFill>
                <a:latin typeface="Calibri"/>
              </a:rPr>
              <a:t>Полагане начало на процеса на оценка и остойностяване на екосистеми и техните услуги, с цел въвеждане в националните счетоводни систе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1828800" y="5105520"/>
            <a:ext cx="62485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17375e"/>
                </a:solidFill>
                <a:latin typeface="Calibri"/>
              </a:rPr>
              <a:t>Бенефициенти: МОСВ (дирекция НСЗ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ontent Placeholder 3" descr=""/>
          <p:cNvPicPr/>
          <p:nvPr/>
        </p:nvPicPr>
        <p:blipFill>
          <a:blip r:embed="rId1"/>
          <a:stretch/>
        </p:blipFill>
        <p:spPr>
          <a:xfrm>
            <a:off x="0" y="835200"/>
            <a:ext cx="1365120" cy="6022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logo1"/>
          <p:cNvPicPr/>
          <p:nvPr/>
        </p:nvPicPr>
        <p:blipFill>
          <a:blip r:embed="rId2"/>
          <a:stretch/>
        </p:blipFill>
        <p:spPr>
          <a:xfrm>
            <a:off x="270000" y="152280"/>
            <a:ext cx="1095120" cy="600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3"/>
          <a:stretch/>
        </p:blipFill>
        <p:spPr>
          <a:xfrm>
            <a:off x="7827840" y="152280"/>
            <a:ext cx="1094040" cy="6829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1600200" y="152280"/>
            <a:ext cx="6095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РАБОТНА ГРУПА ЗА ИЗГОТВЯНЕ НА ОПЕРАТИВНА ПРОГРАМ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 </a:t>
            </a:r>
            <a:r>
              <a:rPr b="1" lang="bg-BG" sz="1700" spc="-1" strike="noStrike">
                <a:solidFill>
                  <a:srgbClr val="77933c"/>
                </a:solidFill>
                <a:latin typeface="Calibri"/>
              </a:rPr>
              <a:t>ЗА ОКОЛНА СРЕДА 2014 – 2020 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1"/>
          <p:cNvSpPr/>
          <p:nvPr/>
        </p:nvSpPr>
        <p:spPr>
          <a:xfrm>
            <a:off x="1846440" y="3276720"/>
            <a:ext cx="632448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17375e"/>
                </a:solidFill>
                <a:latin typeface="Calibri"/>
              </a:rPr>
              <a:t>БЛАГОДАРЯ ЗА ВНИМАНИЕТ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amuil</dc:creator>
  <dc:description/>
  <dc:language>en-US</dc:language>
  <cp:lastModifiedBy>DStefanova</cp:lastModifiedBy>
  <dcterms:modified xsi:type="dcterms:W3CDTF">2013-03-13T14:23:52Z</dcterms:modified>
  <cp:revision>132</cp:revision>
  <dc:subject/>
  <dc:title>PowerPoint Presentation</dc:title>
</cp:coreProperties>
</file>