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EA5-6C81-4B8E-A54E-7FFA1369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822-BC76-4DB6-BDB2-9D7B172E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63A2-1B00-4B36-8169-3F298E8B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694-A8B3-4748-9B0D-E3FD2860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090-B5D6-4902-8124-EEE10055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EEC0-39C0-4EED-9994-A1075C4E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961-5EBC-4FCB-8D4A-B9D3C0C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B48-FC6C-4422-9110-0CA8FB25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C7B5-A84A-4820-AEDE-201DB1AB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83D-5BE8-4025-9D99-3325B6FE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1E1B-A19D-4903-8062-142B75E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34B-016F-4BF5-9002-2CECFF0A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9E8F-34BB-42F2-9E6E-8A0BD0758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752480" y="213372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17375e"/>
                </a:solidFill>
                <a:latin typeface="Calibri"/>
              </a:rPr>
              <a:t>ПРИОРИТЕТНА ОС 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4</a:t>
            </a:r>
            <a:r>
              <a:rPr b="1" lang="bg-BG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17375e"/>
                </a:solidFill>
                <a:latin typeface="Calibri"/>
              </a:rPr>
              <a:t>ТЕХНИЧЕСКА ПОМО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044960" y="55627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IV </a:t>
            </a: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заседание на РГ за ОПОС 2014 – 2020 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13 март 2013 г., гр. Со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"/>
          <p:cNvSpPr/>
          <p:nvPr/>
        </p:nvSpPr>
        <p:spPr>
          <a:xfrm>
            <a:off x="1600200" y="1523880"/>
            <a:ext cx="693432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хническата помощ в рамките на ОП ще осигури необходимата подкрепа за управлението на програмата, нейното изпълнение, мониторинг, контрол и оценка, както и за мерки за публичност и популяризиране на програмата, укрепване на съществуващия капацитет на структурите, включени в управлението и изпълнението на оперативната програма, укрепване на капацитета на институциите, отговорни за прилагането на политиката по опазване на околната сре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1828800" y="5105520"/>
            <a:ext cx="6546960" cy="13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Бенефициенти: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Управляващият орган, бенефициенти идентифицирани в рамките на приоритетни оси 1, 2 и 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, институциите, отговорни за прилагането на политиката по опазване на околната среда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ounded Rectangle 1"/>
          <p:cNvSpPr/>
          <p:nvPr/>
        </p:nvSpPr>
        <p:spPr>
          <a:xfrm>
            <a:off x="1600200" y="990720"/>
            <a:ext cx="6934320" cy="95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йности, насочени към осигуряване на необходимата подкрепа за изпълнение на ОП</a:t>
            </a: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1676520" y="2057400"/>
            <a:ext cx="6858000" cy="14479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репване капацитета на структурите ангажирани с управлението на програмата, осигуряване на необходимото оборудване за нейното управление и изпълнение, подкрепа за специфични функции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(одит, контрол, проверки на мяст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1676520" y="3657600"/>
            <a:ext cx="6858000" cy="12193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учвания, анализи, оценки във връзка с изпълнението и управлението на ОП, а също и за подготовка на програмните документи за следващия програмен пери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ounded Rectangle 5"/>
          <p:cNvSpPr/>
          <p:nvPr/>
        </p:nvSpPr>
        <p:spPr>
          <a:xfrm>
            <a:off x="1676520" y="5105520"/>
            <a:ext cx="6858000" cy="144756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крепа за изпълнението на проекти по приоритетни оси 1, 2 и 3, вкл. осигуряване на обучения за бенефициентите/ звената за управ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le 1"/>
          <p:cNvSpPr/>
          <p:nvPr/>
        </p:nvSpPr>
        <p:spPr>
          <a:xfrm>
            <a:off x="1600200" y="1066680"/>
            <a:ext cx="6773760" cy="959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йности, насочени към осигуряване на необходимата подкрепа за публичност и популяризиране на 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1676520" y="2133720"/>
            <a:ext cx="6705360" cy="1066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ка, организиране и изпълнение на Комуникационния план за ОП, включително предвидените дейности за информация и публичност, както и за разпространение на програм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1676520" y="3429000"/>
            <a:ext cx="6629400" cy="12193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ъздаване и поддържане на интернет страница за ОП, информираща потенциалните бенефициенти за наличната помощ по програмата и резултатите от нейното изпълн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1752480" y="4800600"/>
            <a:ext cx="6629400" cy="14479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ъздаване на информационен център, наемане на необходимите човешки ресурси за дейностите за информация и публичнос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готовка и разпространение на материали, свързани с популяризиране на О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1"/>
          <p:cNvSpPr/>
          <p:nvPr/>
        </p:nvSpPr>
        <p:spPr>
          <a:xfrm>
            <a:off x="1600200" y="1219320"/>
            <a:ext cx="6773760" cy="88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3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йности, насочени към укрепване капацитета на институциите, отговорни за прилагането на политиката по опазване на околната ср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3"/>
          <p:cNvSpPr/>
          <p:nvPr/>
        </p:nvSpPr>
        <p:spPr>
          <a:xfrm>
            <a:off x="1600200" y="2286000"/>
            <a:ext cx="6781680" cy="21337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аботване/ изменение на стратегически/ програмни документи и на съответните прилагащи документи (ръководства, методически указания и др.), изисквани съгласно действащото законодателство или други ангажименти и/ или необходими за ефективното изпълнение на политиката по околна среда и политиката по изменение на клим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1600200" y="4724280"/>
            <a:ext cx="6781680" cy="1600200"/>
          </a:xfrm>
          <a:prstGeom prst="roundRect">
            <a:avLst>
              <a:gd name="adj" fmla="val 26704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игуряване на специализирано техническо оборудване и внедряване на информационни системи, изисквани съгласно действащото законодателство или други ангажименти и/ или необходими за ефективното изпълнение на политиката по околна среда и политиката по изменение на климата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1"/>
          <p:cNvSpPr/>
          <p:nvPr/>
        </p:nvSpPr>
        <p:spPr>
          <a:xfrm>
            <a:off x="1846440" y="3276720"/>
            <a:ext cx="63244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17375e"/>
                </a:solidFill>
                <a:latin typeface="Calibri"/>
              </a:rPr>
              <a:t>БЛАГОДАРЯ ЗА ВНИМАНИЕТ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amuil</dc:creator>
  <dc:description/>
  <dc:language>en-US</dc:language>
  <cp:lastModifiedBy>Alex</cp:lastModifiedBy>
  <dcterms:modified xsi:type="dcterms:W3CDTF">2013-03-13T07:26:59Z</dcterms:modified>
  <cp:revision>130</cp:revision>
  <dc:subject/>
  <dc:title>PowerPoint Presentation</dc:title>
</cp:coreProperties>
</file>